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1CA-8229-4D1A-9B27-D88F381E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938-65EB-40EF-AA52-F57CDE94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E57-822F-4923-B53E-79B75390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CC0-1241-45FB-99E5-36F69615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36B1-C729-46FD-A3C1-28CE106A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EAE9-3332-4943-8493-BB2AD6CE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0052-BF20-4B4F-BAC2-9FCE94E2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CBC8-5791-4B20-879F-7EEE6A68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61B1-4363-48A4-BA1C-0968EB45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3818-8E63-4C51-8CDD-976CA02C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E6EA-E7A3-4E7D-BEB5-293AD0ED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F87-6CDD-4CAC-B6CF-60E041B6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C5FD-8C72-4764-A924-DBD578B9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BA7D-B38B-44F8-A943-5380FAA1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233E-B317-40F8-909B-2329BDA5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4872-E00E-4BE0-A914-0C576624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6241-D793-42BF-B318-0751EB34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725-FF97-4A7E-B096-816D3E04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214-A67C-4C25-B351-BEA4452A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75B-62CA-4178-8E55-7DD5E03D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45C-07B1-4569-9E09-F6A11116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330-B566-4083-BC9A-ED20E752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9EA-32CF-4BA6-8851-41068279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BB9-E1DD-46E9-ADDA-DC41698B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B1785-2333-475D-BB68-CFEBC9062887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5DA67-EFAF-4D5B-BA44-6B4C9A92635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67329-1F71-4F5C-8565-CE96096262AE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9C5C3-FAEC-45F8-8026-99E87741292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60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: Brian Jewe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19520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3" descr="94.jpg"/>
          <p:cNvPicPr/>
          <p:nvPr/>
        </p:nvPicPr>
        <p:blipFill>
          <a:blip r:embed="rId3"/>
          <a:srcRect l="-9926" t="0" r="-9926" b="0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Macintosh HD:Users:student:Desktop:motor-boat-open-motor-yacht-186050.jpg" descr=""/>
          <p:cNvPicPr/>
          <p:nvPr/>
        </p:nvPicPr>
        <p:blipFill>
          <a:blip r:embed="rId3"/>
          <a:stretch/>
        </p:blipFill>
        <p:spPr>
          <a:xfrm>
            <a:off x="762120" y="1600200"/>
            <a:ext cx="76183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3" descr="motor-yacht-charter.jpg"/>
          <p:cNvPicPr/>
          <p:nvPr/>
        </p:nvPicPr>
        <p:blipFill>
          <a:blip r:embed="rId3"/>
          <a:srcRect l="-8247" t="0" r="-8247" b="0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3" descr="brochure_140296.jpg"/>
          <p:cNvPicPr/>
          <p:nvPr/>
        </p:nvPicPr>
        <p:blipFill>
          <a:blip r:embed="rId3"/>
          <a:srcRect l="0" t="-33913" r="0" b="-33913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3" descr="sailboats.jpg"/>
          <p:cNvPicPr/>
          <p:nvPr/>
        </p:nvPicPr>
        <p:blipFill>
          <a:blip r:embed="rId3"/>
          <a:srcRect l="-9222" t="0" r="-9222" b="0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7:55:57Z</dcterms:created>
  <dc:creator>College of Education</dc:creator>
  <dc:description/>
  <dc:language>en-US</dc:language>
  <cp:lastModifiedBy>College of Education</cp:lastModifiedBy>
  <dcterms:modified xsi:type="dcterms:W3CDTF">2009-07-25T19:18:34Z</dcterms:modified>
  <cp:revision>2</cp:revision>
  <dc:subject/>
  <dc:title>The Waterway</dc:title>
</cp:coreProperties>
</file>